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4A76-77A2-45A3-9605-6F0C687D6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6605-62D7-4BAA-81E0-25C186C9A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9FB9-4736-4092-ABA7-F7AD9E2BB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A58-6A2B-4867-8B39-B958DA44F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D1FE-64FA-47FE-A28A-1FBFA262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53786-1EC3-4685-89ED-B9EA57CA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D4CC-95BA-4FCD-AFE8-19DB604DF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5AA1-BD03-4BC9-B3B3-001D0F9A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32E8-C747-49A9-926C-F5D5C017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6D81-D865-4383-B44C-AF652BD5E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F5056-6BB6-4789-A239-6A06A2B03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C48B-B0B7-4763-99D0-622641AF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88596-2EB6-4735-8173-C1F2F5BA2773}" type="slidenum">
              <a:rPr b="0" lang="es-MX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Group 2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6" name="Rectangle 3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4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00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AutoShape 5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PNUD PNUD.png"/>
          <p:cNvPicPr/>
          <p:nvPr/>
        </p:nvPicPr>
        <p:blipFill>
          <a:blip r:embed="rId2"/>
          <a:stretch/>
        </p:blipFill>
        <p:spPr>
          <a:xfrm>
            <a:off x="8244000" y="112680"/>
            <a:ext cx="765000" cy="1803600"/>
          </a:xfrm>
          <a:prstGeom prst="rect">
            <a:avLst/>
          </a:prstGeom>
          <a:ln w="0">
            <a:noFill/>
          </a:ln>
        </p:spPr>
      </p:pic>
      <p:pic>
        <p:nvPicPr>
          <p:cNvPr id="10" name="Picture 7" descr="image.png"/>
          <p:cNvPicPr/>
          <p:nvPr/>
        </p:nvPicPr>
        <p:blipFill>
          <a:blip r:embed="rId3"/>
          <a:stretch/>
        </p:blipFill>
        <p:spPr>
          <a:xfrm>
            <a:off x="826920" y="6378480"/>
            <a:ext cx="1046160" cy="363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brenda.tagle@undp.org" TargetMode="External"/><Relationship Id="rId2" Type="http://schemas.openxmlformats.org/officeDocument/2006/relationships/hyperlink" Target="mailto:leticia.olmedo@undp.org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	</a:t>
            </a:r>
            <a:br>
              <a:rPr sz="2700"/>
            </a:b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s-MX" sz="2700" spc="-1" strike="noStrike">
                <a:solidFill>
                  <a:srgbClr val="ff0000"/>
                </a:solidFill>
                <a:latin typeface="Calibri"/>
              </a:rPr>
              <a:t>	</a:t>
            </a:r>
            <a:br>
              <a:rPr sz="2700"/>
            </a:br>
            <a:br>
              <a:rPr sz="2700"/>
            </a:br>
            <a:r>
              <a:rPr b="1" lang="es-MX" sz="2700" spc="-1" strike="noStrike">
                <a:solidFill>
                  <a:srgbClr val="ff0000"/>
                </a:solidFill>
                <a:latin typeface="Calibri"/>
              </a:rPr>
              <a:t>APROBACIÓN DE VENDORS </a:t>
            </a:r>
            <a:r>
              <a:rPr b="1" i="1" lang="es-MX" sz="2700" spc="-1" strike="noStrike">
                <a:solidFill>
                  <a:srgbClr val="ff0000"/>
                </a:solidFill>
                <a:latin typeface="Calibri"/>
              </a:rPr>
              <a:t>PAPERLES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55640" y="1197000"/>
            <a:ext cx="7561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Los administradores(as) enviarán un email para solicitar la aprobación de vendors a Brenda Tagle </a:t>
            </a:r>
            <a:r>
              <a:rPr b="0" lang="es-MX" sz="15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1"/>
              </a:rPr>
              <a:t>brenda.tagle@undp.org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  con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opia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a su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Gerente de Programas 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y a Leticia Olmedo </a:t>
            </a:r>
            <a:r>
              <a:rPr b="0" lang="es-MX" sz="1500" spc="-1" strike="noStrike" u="sng">
                <a:solidFill>
                  <a:srgbClr val="0000ff"/>
                </a:solidFill>
                <a:uFillTx/>
                <a:latin typeface="Calibri"/>
                <a:ea typeface="Calibri"/>
                <a:hlinkClick r:id="rId2"/>
              </a:rPr>
              <a:t>leticia.olmedo@undp.org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,con las siguientes características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En el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oncepto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del email indicar “aprobación de vendors” y número de proyecto.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Archivo en formato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PDF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(no imagen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Nombre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del archivo 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será el número de vendor que les dio Atlas, sin ceros a la izquierd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oncentrar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los vendors  y enviar máximo un email al día por proyecto (en la medida de lo posible)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opiar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a Daniel Alcantar cuando sean modificaciones de personal de proyectos, para que se pueda actualizar el sistema de Recursos Humanos y se pueda pagar correctamente la nómina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uando es creación o modificación de vendor con método de pago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HEQUE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,  se enviará el formato de creación de vendor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SIN ANEXOS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Cuando es creación o modificación de vendor con método de pago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TRANSFERENCIA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(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PESOS O DÓLARES)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,  se enviará</a:t>
            </a:r>
            <a:r>
              <a:rPr b="1" lang="es-MX" sz="1500" spc="-1" strike="noStrike">
                <a:solidFill>
                  <a:srgbClr val="ff0000"/>
                </a:solidFill>
                <a:latin typeface="Calibri"/>
                <a:ea typeface="Calibri"/>
              </a:rPr>
              <a:t> 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el</a:t>
            </a:r>
            <a:r>
              <a:rPr b="1" lang="es-MX" sz="1500" spc="-1" strike="noStrike">
                <a:solidFill>
                  <a:srgbClr val="ff0000"/>
                </a:solidFill>
                <a:latin typeface="Calibri"/>
                <a:ea typeface="Calibri"/>
              </a:rPr>
              <a:t> FORMATO DE CREACIÓN DE VENDOR 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y el </a:t>
            </a:r>
            <a:r>
              <a:rPr b="1" lang="es-MX" sz="1500" spc="-1" strike="noStrike">
                <a:solidFill>
                  <a:srgbClr val="ff0000"/>
                </a:solidFill>
                <a:latin typeface="Calibri"/>
                <a:ea typeface="Calibri"/>
              </a:rPr>
              <a:t>ESTADO DE CUENTA 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donde se pueda observar claramente los datos bancarios requeridos. Estos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dos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 documentos enviarlos en </a:t>
            </a:r>
            <a:r>
              <a:rPr b="1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un solo archivo </a:t>
            </a: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PDF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500" spc="-1" strike="noStrike">
                <a:solidFill>
                  <a:srgbClr val="000000"/>
                </a:solidFill>
                <a:latin typeface="Calibri"/>
                <a:ea typeface="Calibri"/>
              </a:rPr>
              <a:t>El tiempo de aprobación será  de dos días hábiles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17:25:07Z</dcterms:created>
  <dc:creator>daniel.alcantar</dc:creator>
  <dc:description/>
  <dc:language>en-US</dc:language>
  <cp:lastModifiedBy>brenda.tagle</cp:lastModifiedBy>
  <dcterms:modified xsi:type="dcterms:W3CDTF">2012-09-11T17:46:27Z</dcterms:modified>
  <cp:revision>54</cp:revision>
  <dc:subject/>
  <dc:title>Slide 1</dc:title>
</cp:coreProperties>
</file>